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6FC9-AEE8-4459-AEBC-E297B8EC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F21-2E46-4A38-8D27-ED07DFEF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B0A-A1AF-471B-834F-1784CF2A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ealbio.wikispaces.com/Period+3+ch+5+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 = alpha-glucose + alpha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= alpha-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ose = galactose + beta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DA75-B5BB-40B0-B6FC-B66ACBE9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lock12012.wikispaces.com/The+three+Classes+totally+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 &amp; sucrose have alpha-lin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ose has a beta-lin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55A-6258-4E9D-BA65-B64F7D2CB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8583-69D1-4689-A87B-DA019358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42D-C5C4-46DF-AD1F-14A8405F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ola bars health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0FC3-5184-4C90-9219-03CE2BD9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C2C-A0A7-4D99-953E-C1DDCBD0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B04F-31E4-4B55-9D65-49DA6298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54F-2C02-4A3A-9DB3-FC66A41C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logy.reachingfordreams.com/biomolecules/carbohydrat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tarch is a chain of alpha-glucose, which we can digest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ellulose is a chain of beta-glucose, which we cannot digest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02E5-BA6C-4F11-B33D-C52D313F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eadyhealth.com/articles/Low_carb_diet_fact_sheet_a48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B6C-7B6F-4DB5-85C7-AC59E6631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2702-4E94-4BE8-8C21-F9C98B2A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D1E-0290-458C-B54C-B48B8932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448-536C-4FBC-9B57-ED85B725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BFE-3483-4AE7-8F95-8EF132EA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pages/viewpage.action?pageId=112527211&amp;navigatingVersions=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24C-6E25-4BF4-BA51-1C48982A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david-bender.co.uk/metabonline/CHO/GI/GI13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A781-4CFA-4682-865F-F3B0BD0B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di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F1B-B182-4EC4-AFAA-464CA901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C7C-F2CC-4810-B741-A1BBE1A1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sucro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0B9-08C7-40A2-82D4-C352B7FF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9C0-D9E9-4F8C-A96A-EB240B3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DC2-E0F9-41C6-8B1C-A8514ABD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BD9-C3DA-48A1-922B-88268AF2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7EB-FE60-4830-9E61-01F03EA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539-315C-4B92-A9E1-BC036807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E58-8E6A-4AF8-8A76-47D753E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796-A9F3-44E1-ADE4-5BC5DB5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90C-CC22-4E20-91D9-48CC7B86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EEE-1214-4E43-9974-392D18B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4C6-7913-4540-869F-E6B23110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2AB-AC61-42FF-A622-7861D0C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952-B5E4-4A6E-8BAA-CC5BE815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y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ydrolysis_reaction"/>
          <p:cNvPicPr/>
          <p:nvPr/>
        </p:nvPicPr>
        <p:blipFill>
          <a:blip r:embed="rId1"/>
          <a:stretch/>
        </p:blipFill>
        <p:spPr>
          <a:xfrm>
            <a:off x="2354400" y="1981080"/>
            <a:ext cx="443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disaccharides.JPG"/>
          <p:cNvPicPr/>
          <p:nvPr/>
        </p:nvPicPr>
        <p:blipFill>
          <a:blip r:embed="rId1"/>
          <a:srcRect l="-9641" t="0" r="-964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sid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3" descr="lactose.gif"/>
          <p:cNvPicPr/>
          <p:nvPr/>
        </p:nvPicPr>
        <p:blipFill>
          <a:blip r:embed="rId1"/>
          <a:srcRect l="-6614" t="0" r="-661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gm_fiberone-1-293x300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naturevalley"/>
          <p:cNvPicPr/>
          <p:nvPr/>
        </p:nvPicPr>
        <p:blipFill>
          <a:blip r:embed="rId1"/>
          <a:stretch/>
        </p:blipFill>
        <p:spPr>
          <a:xfrm>
            <a:off x="1724040" y="609480"/>
            <a:ext cx="56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lif1"/>
          <p:cNvPicPr/>
          <p:nvPr/>
        </p:nvPicPr>
        <p:blipFill>
          <a:blip r:embed="rId1"/>
          <a:stretch/>
        </p:blipFill>
        <p:spPr>
          <a:xfrm>
            <a:off x="752400" y="609480"/>
            <a:ext cx="763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if bar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lif2"/>
          <p:cNvPicPr/>
          <p:nvPr/>
        </p:nvPicPr>
        <p:blipFill>
          <a:blip r:embed="rId1"/>
          <a:stretch/>
        </p:blipFill>
        <p:spPr>
          <a:xfrm>
            <a:off x="685800" y="2838600"/>
            <a:ext cx="7772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ig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horter-chain sugars with 3-10 singl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chain carbohydrat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starch, cellulose, glycogen,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2" descr="Starch_Glycogen_Cellulose_Chitin.gif"/>
          <p:cNvPicPr/>
          <p:nvPr/>
        </p:nvPicPr>
        <p:blipFill>
          <a:blip r:embed="rId1"/>
          <a:srcRect l="-8369" t="0" r="-8369" b="0"/>
          <a:stretch/>
        </p:blipFill>
        <p:spPr>
          <a:xfrm>
            <a:off x="611280" y="692280"/>
            <a:ext cx="7846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Carb D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ocarb"/>
          <p:cNvPicPr/>
          <p:nvPr/>
        </p:nvPicPr>
        <p:blipFill>
          <a:blip r:embed="rId1"/>
          <a:stretch/>
        </p:blipFill>
        <p:spPr>
          <a:xfrm>
            <a:off x="2557440" y="19810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Carb D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of popular low-carb-di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foods are you allowed/not allowed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nefits of the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ossible risks of the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the most important energy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cannot synthesize carbohydrates;  they must be consumed in plant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hydrate-food-shot--350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ugars in straight chain or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H:O usually in 1:2:1 ratio (glucose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fructose, galactose, ribose, deoxyrib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inring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cose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age-3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monosacchs.png"/>
          <p:cNvPicPr/>
          <p:nvPr/>
        </p:nvPicPr>
        <p:blipFill>
          <a:blip r:embed="rId1"/>
          <a:srcRect l="0" t="-3121" r="0" b="-312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2 singl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sucrose, maltose,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5_disaccharides"/>
          <p:cNvPicPr/>
          <p:nvPr/>
        </p:nvPicPr>
        <p:blipFill>
          <a:blip r:embed="rId1"/>
          <a:stretch/>
        </p:blipFill>
        <p:spPr>
          <a:xfrm>
            <a:off x="4495680" y="2009880"/>
            <a:ext cx="4191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ccharides are form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hydration synthesis (condens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68dhsyn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5_05Sucrose"/>
          <p:cNvPicPr/>
          <p:nvPr/>
        </p:nvPicPr>
        <p:blipFill>
          <a:blip r:embed="rId1"/>
          <a:stretch/>
        </p:blipFill>
        <p:spPr>
          <a:xfrm>
            <a:off x="685800" y="3189240"/>
            <a:ext cx="77724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0T11:39:33Z</dcterms:modified>
  <cp:revision>164</cp:revision>
  <dc:subject/>
  <dc:title>Organic Chemistry</dc:title>
</cp:coreProperties>
</file>